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FD68-A9DC-4D63-B07D-AB0066455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7246-7BB0-428A-A870-B4953871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138A-C2D3-456E-914D-9EFE037BF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FA62-B02E-4CFA-BFA9-2AB14516B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B4CD-62E0-48DC-85DD-83FF40EB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17C8-FD15-4904-99AD-8F4CFCB4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E304-4233-421E-8F40-3B930797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346C-CB18-4B29-82FB-E75FAD13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862C-32FE-49DF-A8B1-A51B9F3A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B8BB-6CBB-4CD1-ABBF-B79D2075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FA28-2FE3-406D-90FC-BF5F1DDB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6AF8-F504-43BA-84B0-F90FE3C8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B77E3-95DB-4F69-B5A1-E19F8C0C6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172200" y="63244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A2FS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00400" y="1521000"/>
            <a:ext cx="256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2666880"/>
            <a:ext cx="85345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lesson presents an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HRS Enterprise Datasto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138880" y="6210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69960" y="228600"/>
          <a:ext cx="777240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228600"/>
                    <a:ext cx="77724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8824680" y="6438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3T13:19:39Z</dcterms:created>
  <dc:creator>AG SCHOOL</dc:creator>
  <dc:description/>
  <dc:language>en-US</dc:language>
  <cp:lastModifiedBy>Administrator</cp:lastModifiedBy>
  <cp:lastPrinted>2003-10-01T13:55:15Z</cp:lastPrinted>
  <dcterms:modified xsi:type="dcterms:W3CDTF">2005-07-08T17:17:45Z</dcterms:modified>
  <cp:revision>8</cp:revision>
  <dc:subject/>
  <dc:title>No Slide Title</dc:title>
</cp:coreProperties>
</file>